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1AE012-BA47-4F93-B3D0-199C8D09396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This lesson will take 1 – 2 hou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AAACA0-8507-4F1D-B20E-9082C1D2A5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EC03ED-C77F-40FF-A06D-69F42E9D3B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14CF7E-00F1-4C64-BDCB-D6CE9DEF1A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ould dictate the true-false sentences first, then learners could look at the slide to check. Then they discuss whether they are true or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3D6A3B-EEEF-4B5F-BB03-7D85170607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KEY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26CE6B-1CDB-46A5-9060-E1610941C2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ould print out both texts and give one to each half of the class and do this as a jigsaw-reading – or all students could read both tex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375B53-E1B2-4154-8FE6-35D6181AE8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B8FE7-94E9-4106-85EB-AC739D16B7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C0595-28CA-4B61-A59A-6A5B42DA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BABE4-DEE4-4A14-8AEF-4C678B4B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9DD4-6698-493C-944C-559F9F143F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5624-CE7A-4F67-889E-5D0BF1BC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22E0-2825-4105-B394-A6F7FA80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B98D-EE74-4F27-95CB-1866203E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5A12-0B56-481A-B7CD-85997E30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32F7F-A3CD-43D6-9238-EBE3BF7D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FB6B-D92B-4E23-AE20-9F64A9A2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1844-7AA3-440F-9821-5BE32A3B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9B72B-CE30-482C-A474-4711BD14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D9947C-D78D-42DD-9FE0-53A9BB5541CC}" type="slidenum">
              <a: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10/01/n456_infographic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Young_people_becoming_more_importan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0" spc="-1" strike="noStrike">
                <a:solidFill>
                  <a:srgbClr val="7030a0"/>
                </a:solidFill>
                <a:latin typeface="Calibri"/>
              </a:rPr>
              <a:t>Youth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149720"/>
            <a:ext cx="6400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22320"/>
            <a:ext cx="81154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600200"/>
            <a:ext cx="4038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600200"/>
            <a:ext cx="4038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ue or false?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125360"/>
            <a:ext cx="8785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ths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37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Now check the facts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76640"/>
            <a:ext cx="82296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www.newint.org/features/2012/10/01/n456_infographic.jp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89000"/>
            <a:ext cx="8229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429000"/>
            <a:ext cx="822960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llow-u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read the original articles – they will seem much eas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young-people-mcinty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selling-out-youth-laurie-penny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842080" y="4508640"/>
            <a:ext cx="3138480" cy="216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Mix</cp:lastModifiedBy>
  <dcterms:modified xsi:type="dcterms:W3CDTF">2012-10-28T16:58:13Z</dcterms:modified>
  <cp:revision>5</cp:revision>
  <dc:subject/>
  <dc:title>Youth</dc:title>
</cp:coreProperties>
</file>